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DFD-0A2A-42E6-BEF6-3827D048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56B-9EEC-40F7-AB57-3F3CDD9B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A0E-9977-4324-A3A5-80D3898C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83C-29B1-4C86-8DDD-DDA74E2B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D874-5ABE-4F3D-9950-5F91A31C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2D8F-5CA8-4C3E-A60D-986C8D87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3D72-C757-4855-A88F-35B53F9D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7470-2DB0-441E-B8BE-DA2E4D5D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5BA1-59D5-43D7-B6C2-E943D372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3F3F-6D8E-44E9-90C3-E7DB778C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13E4-96FC-4C05-8B56-BB661A25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3B6-4D0B-4E04-BDFD-DC9841EE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4D8C-5FC2-441B-B371-CD6A1BA0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8EE6-C80E-4C6F-8D79-4A5F7A22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974E-6547-4238-B6E5-8A8AFD1D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9CA8-EE5C-4284-A9FC-53A70003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D470-AB95-4607-AC6F-6E7BC1D2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EB8-C5F5-4D63-9E23-0AB8C8B2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BF2-F4FD-45EA-BDEA-A1B91276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AD7-E321-4B86-9874-48437D67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79E-6D7A-46DD-88C2-85E9716F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6E0-2018-400D-A8E0-A3A4BC89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882-5910-4D39-96C4-375DAF0E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08A-42D0-4E10-9140-69EDDE60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0ABE-D879-4D56-A0CE-289C3B38A0C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E5E8-1D73-4517-A3DA-3E72E7CC5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AE96-FDBC-4D5C-8030-67178EADAD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5603-D0E2-44BB-815A-F0FA97FE4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urs for Turneringsleder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Kretsautorisasj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øtte til gjennomgang av lov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B435-2753-4B90-BA23-04D2B71BC6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BCB2B4E-997C-4626-8C4A-72B0B17720C3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raffeutmålingen § 12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12 A 1-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gen straff i lov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mulig å spille map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onet feil str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12 B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kke lov til å avvike fra de straffene som er fastsatt i lovene f.eks for 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2 C 1-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els pluss 60%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els minus &gt;&gt;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ke feilende får normal sannsynlig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ilende side får verste sannsynlige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Det er lov også for TL å ”veie” en sc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440-2861-4CAE-B2E4-4195502CE0C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362C9-98C4-4C47-AA5E-AAC07C9CF14E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rettmessig informasjon § 16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 informasjon som ikke kommer fra normalt spill eller meld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k av urettmessig informasjon fra makker er forbu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k av informasjon som påtvinges fra andre kilder er forbudt, men erstatning 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sjon fra meldinger og spill som er trukket tilbake er ulovlig for en feilend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år det finnes mye ulovlig informasjon så er det ofte umulig å fortsette et normalt spill. For eksempel når begge par har gjort feil som har ført til tilbaketrukne melding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254-CE6D-4D95-B614-5EB423315858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D8D97-0468-4702-98A6-AC204B7A98D0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1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år meldingsforløpet slut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ørg for at meldekortene ligger på bordet til meldingsforløpet er slutt etter 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20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år er det tillatt å be om forkla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21Om melding basert på ukorrekt opplys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§21B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ør åpningsutspillet er snudd kan den av motstanderne som passet sist endre sin melding når spillefører eller blindemann retter en ufullstendig eller feil forkla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ten som svar på spørsmål eller etter plikten i §75D2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E80-6642-4838-9E53-7A154D7B92B0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93E01-3390-44C2-86F6-B0434A581E5F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2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23 skade ved tvungen pas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e er IKKE et sikkerhetsnet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 ! bare når ”den feilende spiller kunne vite at den tvungne pass sannsynligvis ville ska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24 om fremvist ko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vens bokstav betyr her at spillere som ser på hverandres kort før åpningsutspillet er snud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å legge alle kort synlig på bord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å passe resten av meldingsforløpet dersom en feil forklaring fører til flere melding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033-62E7-4B41-9781-2C8A3086BF62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19FA8-9F57-45C5-8F65-4DDE535FE168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3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25 B 2 er vanskeli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eringen ”DEN SIST AVGITTE MELDING BLIR IKKE AKSEPTERT” betyr at spilleren allerede har byttet ut meldingen sin når denne paragrafen skal  bru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ke tilby spillerne å bruke 25B2b2 når du ikke m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§26 er en viktig støtte i svært mange andre paragrafe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§26A: Bestemt farge eller farger f.eks spar eller kløver og ruter gir rom for krav og forbud i disse far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§26B: Andre meldinger f.eks pass, dobler, NT, viser spar og minor o.s.v gir rom for å nekte en hvilken som helst farge i utsp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E88-E27E-4C7F-B0D7-D83B6D18BA0F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FB379-CC0D-4923-8C15-AFA449E6FFDD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4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27 Utilstrekkelig bu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 må ALLTID få sjansen til å godta mel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e mellom naturlige og konvensjonelle b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ke tillatt å rette til Dobling eller Redob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§28 Om rekkefølgen av meld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lding av spiller i tur annulerer melding utenfor  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Dette er greit dersom det har skjedd ved bordet, men det er ikke et tilbud etter at TL har kommet til bord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705-BB1D-4BD1-9B07-DC48D1A000D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8AC1C-F71C-453C-8750-2E29646A67A7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5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§ 29 A gir VM rett til å godkjenne alle (lovlige) meldinger utenfor tur. Dersom han godkjenner en melding som er ulovlig etter §35-39 så annuleres den ulovlige meldingen og alle etterfølgende meldinger uten straff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§ 29 C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rk at konvensjonelle meldinger utenfor tur som viser en bestemt farge eller bestemte farger så gjelder reglene i § 30-32 disse fargene og ikke benevnel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.eks spar og en minor er ikke bestemte far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805-7EF5-426C-8817-C0C961809722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F5E1B-86F2-4E2F-BEA4-889BF12AB914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6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30-32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knisk kompliserte paragrafer som skal dekke nesten alle tenkelige varianter  og med nøyaktig beskrivelse av hva som skjer etterpå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usk referansene til §26 og §23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§ 16 C nevnes sjelden, men all informasjon fra tilbaketrukne meldinger er ALLTID urettmessig informasjon for den feilende sid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 33 (og§58) viser at når ting skjer samtidig så skjer de etter hverandre i slik at spiller i tur handler førs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34 fastslår at melding utenfor tur ikke fratar noen spiller  muligheten til å meld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ACA-1CAB-4D0F-9F96-32023EA68DE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3BA4F-F3CD-48C3-8FE4-8585E70B039A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7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40 er en sentral paragra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ten til å melde og spille som en 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julte makkeravtaler er forbu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emmelser om konvensj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t er mye tilleggslitteratur om dette med psykiske bud tillate systemer og konvensjoner m.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 alltid oppmerksom i grenselandet mellom skjulte makkeravtaler og psykiske b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 svært skeptisk til psykiske bud som reellt sett er bruk av forbudte konvensj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4AD-F1DA-4E00-9442-C252F777F3F0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6F51C-C12B-49F6-9A8A-3822FFD86B00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ystemkor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BF har påbudt bruken av system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enkelte arrangør kan komme med påbud som også kan si at et bestemt system gjelder, eller at manglende systemkort fører til at et forhåndsutfylt kort deles 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vik fra system når det ikke finnes systemkort eller annen dokumentasj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 skal tendere til å dømme feil forklaring og eventuelt ulovlig konvensjon når systemet ikke kan dokume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393-A8CE-4889-84E2-3B726631F197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16090-FE9B-4978-A620-899FDA9A7A9F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ål for kurse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Kretsautorisasjon som turneringsled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ne arrangere lokale turner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vkunnskap og dømm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gnska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ruke manuelle metod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ruke dataverktøy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ganisering av 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sjon av resulta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911-64FF-4619-911B-7DF4C2F032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CACA6-1E6E-4509-983B-A6AD6A6C0C45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kjulte makkeravtal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Når systemet er slik at en del hender er ”umulige” å melde, blir nødløsningen lett en skjult makkeravta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Åpning 1 NT med singelton, 1 Hp for lite eller 1 HP for m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var 1 </a:t>
            </a:r>
            <a:r>
              <a:rPr b="0" lang="nb-NO" sz="20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med 3 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Melding 2/3 </a:t>
            </a:r>
            <a:r>
              <a:rPr b="0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som krav eller holdvisende uten lengde os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år du tar en sjan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ker 1 kl HM:D du har 3343 og  0 hp og melder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k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vtalen: Pass viser minst 5 kløv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kjult avtale:Pass viser en fryktelig dårlig hånd jeg håper at VM løfter oss av kroken  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412-FF85-4F87-8246-3A0610BD56BF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BF31E-9597-4753-9102-B856798DEBC0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ngen makkeravtaler ?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rsom det ikke er noen makkeravtale eller makker har glemt avtalen så skal melderens makker svare det. Og bare det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ar på spørsmål om hva han tror det er hjelper ikke motstanderne og gir urettmessig informasjon til meld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dingen som er avgitt vil senere enten være makkeravtalen, eller det må avtales noe annet for denne situasj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år melderens makker har glemt avtalen, kan TL ta ham bort fra bordet og la melderen forkla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vtalen er glemt er også urettmessig informasj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lende systemkort vil ofte bety at meldingen defineres som syste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ke vær streng med slikt i sommerturneringer eller singel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E65-7F2D-4300-A4EB-D8AC901877BA}" type="slidenum">
              <a:t>2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9874A-69C2-478D-A49D-133459310CB2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pillet: Fremgangsmåt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41 krever fordekt åpningsutspill NB husk §17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dingsforløpet er gjentatt ved at meldekortene ligger på bor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 kan spørre om betydningen av meld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pillefører og blindemann skal korrigere manglende alerter og feil forklaringer fra makkers side (§75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otspillerne skal ikke røpe at makker har unnlatt å alertere eller har forklart feil (75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0F4-996E-4B8B-B316-01F6AB6C6D28}" type="slidenum">
              <a:t>2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E77D5-78E4-48C7-9807-E23FC20AC057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lindemann sine rett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t er viktig å vite om blindemann har sine rettigheter i behol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lindemann kan idømmes straff etter §90 for brudd på §41 A og 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 45 C Tvungent spill av kort fra en hån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e reglene skal håndheves ganske stre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ær oppmerksom når du skal bruke §45 D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ll av vanvare kan være nesten hva som he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949-54C1-4E51-AA16-66C5CFEE2BA0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6CF97-DF75-4C8D-B4A7-4B997B2A023C}" type="datetime1">
              <a:rPr lang="en-US"/>
              <a:t>07/31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raffekor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re motspillere kan få straffe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t som er vist under meldingsforløpet kan bli straffekort dersom spillefører vil 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t som er vist under spillet er alltid straffekort (unntatt når TL straks bruker §72B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ter hva som er et lite straffekort og et stort straffe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år en spiller har flere straffekort som lovlig kan spilles, kan spillefører velge hvilket straffekort som skal sp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692-B965-4646-B041-53B8A0F2AE7D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54655-8FFD-4D85-A3E6-CE5352B1B2E1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3C6-C5D2-4DB2-9AB2-133EA3353D1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5CE5E-4C05-4A35-AE81-186ACB9B5F9E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dskapene i ledelse av Bridge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edtatte regl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sjonale lover 1997 utg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sitt reg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tillatte meldesyst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regler for bruk av alert og sto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tøtteregler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inutes” fra W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ommentary on 1987 Laws (Endicott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nbefalinger fra W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urneringsoppsett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ävlingsled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Dataregnskap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CA6-9CE1-4587-A9E4-B5DAF1C67AC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EE5C4-E2F7-4B3D-A030-C4E5063E613A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Lovbok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finisjon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beredels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beredelser og gjennomfø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regelmessighe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ldingen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pill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remgangsmå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raff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ikk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Krav og avstå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Etiske regl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12E-7B63-413F-9478-F3EAC65BE456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CE22C-3C5A-47B2-AE97-267AA9A39B91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Lovboka II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gnskap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rrangering av 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urneringsleder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varsområ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gjør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rigering av uregelmessig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ffebestemm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ppel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Utfyllende bestemmels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tedfortredere i par eller singel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tedfortredere i lag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ttigheter med hensyn til plassering i lag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ppendix om bruk av skjer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457-1A2B-4684-B0E7-005DCF427C68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87390-0D09-487C-A9BB-6F0064CAF6E2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Definisjon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 gjennom plansjene fra lovboka og vær nøye med definisjon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k f.eks forskjellen mell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U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LD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g merke til definisjon av konvensjonell me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CD4-8354-4C8D-856B-1F4E056DD2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22971-E41D-40F6-AF49-7F3D4B058390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apitel II og III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Forberedelser og gjennomfør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ildeling av p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Giv og omg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Kontroll av mapper og k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vvikling av r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5DE-F911-42B1-987D-8604578240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33A9B-0333-4F3B-8BA2-B194FF961D62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regelmess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vordan og når uregelmessigheter påtal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tten til å tildele straff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tten til å anvende skjøn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korrekt antall kor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pill av feil mapp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rettmessig informasj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A69-AB91-4B06-BDBC-EC9CEFA1E8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F6CA7-E734-4B27-B942-CD39965A2560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tten til å straffe §11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L er alene om å kunne tildele straf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L skal forklare alle valgmulighe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år en spiller skal velg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n konsultasjon mellom makkere ved valg mellom alternat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tten til straff kan tap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d å spille eller me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år en tilskuer ”som er din venn” sier i fra om uregelmessigheten    (se også § 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807-00A2-4842-88DA-7B656E231535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3FFCA-804A-4F1B-BF00-A6C764B6791D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7:30:15Z</dcterms:created>
  <dc:creator>Per Nordland</dc:creator>
  <dc:description/>
  <dc:language>en-US</dc:language>
  <cp:lastModifiedBy>Per Nordland</cp:lastModifiedBy>
  <dcterms:modified xsi:type="dcterms:W3CDTF">2002-04-17T23:10:54Z</dcterms:modified>
  <cp:revision>5</cp:revision>
  <dc:subject/>
  <dc:title>Kurs for Turneringsledere</dc:title>
</cp:coreProperties>
</file>